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13099-F60C-4029-B16F-40F2926AAF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713FB-291E-4B97-8B2D-B061B3E1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BCEAE-FA40-4A95-B630-1FE2DA07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EC1C3-1EF6-4452-BC57-ED0EA6CF33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8CFBD-EC9F-4A64-9CFD-BF69B368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20802-5016-445E-91F5-43A5CC49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AD0D6-2303-41E9-8501-54F52D32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F3631-84D8-461B-8D28-B7112E31D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34F87-45E5-45F8-939A-89FEA7B32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0DD5D-4D43-41A7-8DEF-300EC87B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22453-B4C4-48BB-BF05-9D4A5B04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FA964-EA8C-4472-B898-AE0563B2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1E74-D25A-4EDC-A3F1-767E4E32A25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危重患者的管理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常用急救技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心搏骤停的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识丧失或伴抽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颈动脉、股动脉等大动脉搏动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停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瞳孔散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本生命支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指专业或非专业人员进行徒手抢救，包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AB 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主要步骤，即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人工循环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胸外心脏按压）、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开放气道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人工呼吸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肺复苏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本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加强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延续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本生命支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放气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判断并启动急救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放置心肺复苏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卧在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坚实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面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外心脏按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部位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胸骨下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位方法：取两乳头连线至胸骨交叉的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6167520" y="4365720"/>
            <a:ext cx="24922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向下用力按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深度为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至少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c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次按压后要全部放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下压时间与放松时间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比为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∶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应平稳、有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频率为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至少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0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连续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按压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胸外心脏按压时的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部位要正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时手指要抬离胸壁，以防压力沿手指传至肋骨引起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时双臂应保持伸直不弯曲，并应垂直向下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有无并发症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开放气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清除气道异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气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头抬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抬举下颌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头举颏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250920" y="4292640"/>
            <a:ext cx="2065320" cy="1501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2987640" y="4292640"/>
            <a:ext cx="2217600" cy="1485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>
            <a:off x="5940360" y="4237200"/>
            <a:ext cx="200340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对口人工呼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气道开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者深吸一口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捏紧患者鼻子，包住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慢而持续地将气体吹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次吹气历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连续吹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对鼻人工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婴幼儿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牙关紧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者口唇无法严密包绕患者口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危重患者的监测和护理内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心搏呼吸骤停的原因、判定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心肺脑复苏的注意事项和有效指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缺氧的原因及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陈述氧疗的并发症及预防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洗胃的适应证、禁忌证和洗胃时的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吸痰时的目的、方法和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能正确使用简易呼吸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 能正确进行胸外心脏按压及人工呼吸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能正确执行给氧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能根据患者的具体情况正确选择洗胃方式和洗胃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不要过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量不要过大，吹气量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0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60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的同时不要按压胸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现场心肺复苏术的基本程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先判断是否有意识和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迅速将患者放置于仰卧位，背靠坚实的平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立即进行胸外心脏按压，以大于每分钟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的频率做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按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气道，并保持气道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进行口对口或口对鼻吹气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按压与吹气之比为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30∶2</a:t>
            </a:r>
            <a:r>
              <a:rPr b="0" lang="zh-CN" sz="2800" spc="-1" strike="noStrike">
                <a:solidFill>
                  <a:srgbClr val="00b0f0"/>
                </a:solidFill>
                <a:latin typeface="Verdana"/>
                <a:ea typeface="宋体"/>
              </a:rPr>
              <a:t>，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反复进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隔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2min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判断患者的呼吸、脉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隔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2min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轮换按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现场心肺复苏术的有效指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触到大动脉搏动，肱动脉收缩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8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色、口唇、甲床、皮肤等处色泽转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散大的瞳孔缩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自主呼吸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程度变浅，可出现反射或四肢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氧 气 疗 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临床上针对缺氧的一种治疗方法，即给予缺氧的患者吸入氧气，其目的在于提高患者肺泡内氧分压，从而提高动脉血氧分压，纠正低氧血症及其带来的危害，挽救患者的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缺氧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张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循环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织中毒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耗氧增加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缺氧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轻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65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无发绀，一般无需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69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65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6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有发绀，需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69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6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明显发绀，必须进行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吸入氧流量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低流量给氧：</a:t>
            </a:r>
            <a:r>
              <a:rPr b="0" lang="zh-CN" sz="2400" spc="-1" strike="noStrike">
                <a:solidFill>
                  <a:srgbClr val="c00000"/>
                </a:solidFill>
                <a:latin typeface="PMingLiU"/>
                <a:ea typeface="PMingLiU"/>
              </a:rPr>
              <a:t>≤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4L/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流量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4L/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吸入氧浓度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低浓度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中浓度给氧：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%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浓度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给氧时的压力情况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常压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压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供氧装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压力一般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0kg/cm</a:t>
            </a:r>
            <a:r>
              <a:rPr b="0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容纳氧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00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供氧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枕供氧装置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操作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528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具体流程见教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鼻导管吸氧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鼻塞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罩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帐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遵守操作规程，注意用氧安全，做好“</a:t>
            </a: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宋体"/>
              </a:rPr>
              <a:t>四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使用氧气时，应先调节好流量后再用；停用时应先拔出导管，再关闭氧气开关；氧疗过程中需调节流量时，应先分离开鼻导管再调节流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进入呼吸道前需经湿化瓶湿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期观察氧疗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云形标注 4"/>
          <p:cNvSpPr/>
          <p:nvPr/>
        </p:nvSpPr>
        <p:spPr>
          <a:xfrm>
            <a:off x="3995640" y="3789360"/>
            <a:ext cx="4176720" cy="1943280"/>
          </a:xfrm>
          <a:prstGeom prst="cloudCallout">
            <a:avLst>
              <a:gd name="adj1" fmla="val 46180"/>
              <a:gd name="adj2" fmla="val -15062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防火、防震、防热、防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现场急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并发症及预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抑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肺不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晶体后纤维组织增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洗 胃 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向胃内灌注溶液的方法来排除胃内毒物或潴留食物，以达到解除患者痛苦、抢救患者生命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除胃内毒物或其他有害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胃内滞留的食物排出，减轻胃黏膜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胃手术或检查的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的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吞服强酸或强碱等腐蚀性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消化道溃疡、食管阻塞、食管胃底静脉曲张、胃癌等患者一般不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主动脉瘤、心肌梗死患者慎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液的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02476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服催吐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管洗胃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器灌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电动吸引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机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口服催吐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于清醒合作且非致命性、非腐蚀性毒物中毒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操作步骤（具体操作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取坐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压舌板刺激患者咽后壁或者舌根诱发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助患者饮入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0ml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压舌板刺激患者舌咽部，引起反射性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此反复进行，直至吐出液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清洁无味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用物，洗手，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云形标注 4"/>
          <p:cNvSpPr/>
          <p:nvPr/>
        </p:nvSpPr>
        <p:spPr>
          <a:xfrm>
            <a:off x="6224760" y="4941720"/>
            <a:ext cx="2881080" cy="1440000"/>
          </a:xfrm>
          <a:prstGeom prst="cloudCallout">
            <a:avLst>
              <a:gd name="adj1" fmla="val -44972"/>
              <a:gd name="adj2" fmla="val -14042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遵医嘱留取毒物标本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管洗胃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操作步骤（具体操作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取左侧卧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洗胃管插入胃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始洗胃，洗胃过程注意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结束：洗出液清洁无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完毕，整理用物，洗手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云形标注 4"/>
          <p:cNvSpPr/>
          <p:nvPr/>
        </p:nvSpPr>
        <p:spPr>
          <a:xfrm>
            <a:off x="4427640" y="4508640"/>
            <a:ext cx="2736720" cy="2016000"/>
          </a:xfrm>
          <a:prstGeom prst="cloudCallout">
            <a:avLst>
              <a:gd name="adj1" fmla="val -25606"/>
              <a:gd name="adj2" fmla="val -7326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记录洗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液名称及量、洗出液的颜色和气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当中毒物不明时，应抽出胃内容物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溶液可选温开水或等渗盐水或有针对性的抗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液温度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7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8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次灌入量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0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0ml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次洗胃总量一般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0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000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入液量要大致相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开始时应先抽出胃内容物再灌入洗胃液，饭后中毒的患者应先催吐再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器洗胃压力不宜过大，应保持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3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洗胃过程中应注意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随时观察脉搏、呼吸、血压及患者腹部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患者主诉腹痛，且流出血性灌洗液或出现休克现象，应立即停止洗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昏迷患者洗胃应谨慎，应取去枕仰卧位，头转向一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幽门梗阻患者洗胃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需记录胃内潴留量以了解梗阻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宜在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空腹时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危重患者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抢救工作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立即指定抢救负责人，组成抢救小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参与制订抢救方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制订抢救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配合医生进行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抢救记录和查对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要熟悉危重患者的病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格执行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“五定”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制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用物要及时清理、归还原处和补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交接班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 吸 痰 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经口腔、鼻腔、人工气道将呼吸道的分泌物吸出，以保持呼吸道通畅，预防吸入性肺炎、肺不张、窒息等并发症的一种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老体弱、危重、昏迷、麻醉未清醒前等各种原因引起的不能有效咳嗽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引装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509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负压吸引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鼻或口腔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气管插管或气管切开套管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具体操作步骤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遵循无菌操作原则，每次均须更换无菌吸痰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管最大外径不能超过气管导管内径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负压吸引压力不宜太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吸痰前后可通过加大氧浓度来增加患者的供氧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动作要轻柔、敏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引时禁止反复上下提插吸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次吸痰时间不宜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如痰液多，需要再次吸引，应间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连续吸痰不得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吸痰间隔予以纯氧吸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液黏稠者可先行稀释痰液，使痰液易于吸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过程中应密切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引瓶内的吸出液至半瓶时即应倾倒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器应专人保管，做好清洁保养工作，定期检查其性能，搬运时避免剧烈震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数量品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点安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人保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消毒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检查维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危重患者的病情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枢神经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循环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危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2960" y="1628280"/>
            <a:ext cx="4340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呼吸道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气管插管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气管切开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机的使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内容占位符 2"/>
          <p:cNvSpPr/>
          <p:nvPr/>
        </p:nvSpPr>
        <p:spPr>
          <a:xfrm>
            <a:off x="4754520" y="1125360"/>
            <a:ext cx="43387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基础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证患者的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便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肢体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止坠积性肺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证足够的营养和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现场心肺复苏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现场急救指当危重急症以及意外伤害发生，专业医务人员未赶到之前，抢救者利用现场所提供的人力、物力为伤病者采取及时有效的初步救助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心搏骤停的原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器质性心脏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系统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解质及酸碱平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毒、手术和麻醉意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外事件如遭遇雷击、电击、溺水、窒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05:2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